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5.jpeg" ContentType="image/jpeg"/>
  <Override PartName="/ppt/media/image30.jpeg" ContentType="image/jpeg"/>
  <Override PartName="/ppt/media/image31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33.png" ContentType="image/png"/>
  <Override PartName="/ppt/media/image34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00D-7426-4433-B2E0-DAF22F48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E6D-E7D8-4477-8088-AE712791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9F8-D250-4072-B599-CBB10C82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F12-E3A3-4133-A12D-14650FFE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4FB-B0B9-412A-A0B1-F836E5FC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59A-2ADA-460E-A7DD-EA5EBDB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E64-0221-48FB-905C-BDADA40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E3F-3EFC-43A4-8357-67D177DA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E9D-D299-4024-8B6E-02571E36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3C4-E5F9-4DA5-8737-9D151F86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F30-07CE-470C-AB53-1D1D1A8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D28-592C-405D-AA56-4F5CE83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1F8-1A56-4D58-8A06-29B4B5580CB2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fffff"/>
                </a:solidFill>
                <a:latin typeface="Tahoma"/>
              </a:rPr>
              <a:t>Устный журнал</a:t>
            </a:r>
            <a:endParaRPr b="0" lang="en-US" sz="72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85228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Лесные великан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http://content.foto.mail.ru/mail/lp_aris/_blogs/i-16108.jpg"/>
          <p:cNvPicPr/>
          <p:nvPr/>
        </p:nvPicPr>
        <p:blipFill>
          <a:blip r:embed="rId1"/>
          <a:stretch/>
        </p:blipFill>
        <p:spPr>
          <a:xfrm>
            <a:off x="324000" y="395280"/>
            <a:ext cx="467676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stalker-nw.ru/images/kartinkiZIK/76a.jpg"/>
          <p:cNvPicPr/>
          <p:nvPr/>
        </p:nvPicPr>
        <p:blipFill>
          <a:blip r:embed="rId2"/>
          <a:stretch/>
        </p:blipFill>
        <p:spPr>
          <a:xfrm>
            <a:off x="5407200" y="395280"/>
            <a:ext cx="3389040" cy="4421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6177960" y="5094360"/>
            <a:ext cx="184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fffff"/>
                </a:solidFill>
                <a:latin typeface="Tahoma"/>
              </a:rPr>
              <a:t>ИВ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реза-у-пруда"/>
          <p:cNvPicPr/>
          <p:nvPr/>
        </p:nvPicPr>
        <p:blipFill>
          <a:blip r:embed="rId1"/>
          <a:stretch/>
        </p:blipFill>
        <p:spPr>
          <a:xfrm>
            <a:off x="179280" y="144360"/>
            <a:ext cx="5151600" cy="652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Кисть-рябины-1"/>
          <p:cNvPicPr/>
          <p:nvPr/>
        </p:nvPicPr>
        <p:blipFill>
          <a:blip r:embed="rId2"/>
          <a:stretch/>
        </p:blipFill>
        <p:spPr>
          <a:xfrm>
            <a:off x="5530680" y="144360"/>
            <a:ext cx="3529080" cy="4084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5508720" y="4950000"/>
            <a:ext cx="350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РЯБ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227640" y="443700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ягоды рябин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potrawyregionalne.pl/media/fot_rozne/lipadr_2.jpg"/>
          <p:cNvPicPr/>
          <p:nvPr/>
        </p:nvPicPr>
        <p:blipFill>
          <a:blip r:embed="rId1"/>
          <a:stretch/>
        </p:blipFill>
        <p:spPr>
          <a:xfrm>
            <a:off x="225360" y="204840"/>
            <a:ext cx="5016600" cy="56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fitoapteka.org/images/foto/115/6.jpg"/>
          <p:cNvPicPr/>
          <p:nvPr/>
        </p:nvPicPr>
        <p:blipFill>
          <a:blip r:embed="rId2"/>
          <a:srcRect l="38801" t="0" r="0" b="0"/>
          <a:stretch/>
        </p:blipFill>
        <p:spPr>
          <a:xfrm>
            <a:off x="5370480" y="189000"/>
            <a:ext cx="3706920" cy="55483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5984280" y="5589720"/>
            <a:ext cx="201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ЛИП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www.plantphoto.ru/groups_albums_photos/94/4087.jpg"/>
          <p:cNvPicPr/>
          <p:nvPr/>
        </p:nvPicPr>
        <p:blipFill>
          <a:blip r:embed="rId1"/>
          <a:stretch/>
        </p:blipFill>
        <p:spPr>
          <a:xfrm>
            <a:off x="179280" y="260280"/>
            <a:ext cx="3816360" cy="508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bookz.ru/authors/viktor-moroz/rasskaji_125/i_010.jpg"/>
          <p:cNvPicPr/>
          <p:nvPr/>
        </p:nvPicPr>
        <p:blipFill>
          <a:blip r:embed="rId2"/>
          <a:srcRect l="0" t="0" r="43175" b="0"/>
          <a:stretch/>
        </p:blipFill>
        <p:spPr>
          <a:xfrm>
            <a:off x="4460760" y="260280"/>
            <a:ext cx="4419720" cy="50896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251160" y="5349960"/>
            <a:ext cx="28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ТОПОЛЬ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5" descr="Дерево-клена"/>
          <p:cNvPicPr/>
          <p:nvPr/>
        </p:nvPicPr>
        <p:blipFill>
          <a:blip r:embed="rId1"/>
          <a:stretch/>
        </p:blipFill>
        <p:spPr>
          <a:xfrm>
            <a:off x="250920" y="189000"/>
            <a:ext cx="4567320" cy="645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Клён-листья"/>
          <p:cNvPicPr/>
          <p:nvPr/>
        </p:nvPicPr>
        <p:blipFill>
          <a:blip r:embed="rId2"/>
          <a:stretch/>
        </p:blipFill>
        <p:spPr>
          <a:xfrm>
            <a:off x="5200560" y="189000"/>
            <a:ext cx="3780000" cy="3462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5315040" y="4724280"/>
            <a:ext cx="350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КЛЁ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099480" y="3968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резные листья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30000"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252720" y="18864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fffff"/>
                </a:solidFill>
                <a:latin typeface="Arial"/>
              </a:rPr>
              <a:t>Осенью листья на деревьях меняют окраску. Листья желтеют, краснеют и опадают. </a:t>
            </a:r>
            <a:endParaRPr b="0" lang="en-US" sz="30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09480" y="6056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fffff"/>
                </a:solidFill>
                <a:latin typeface="Tahoma"/>
                <a:ea typeface="Arial"/>
              </a:rPr>
              <a:t>Начинается </a:t>
            </a:r>
            <a:r>
              <a:rPr b="1" lang="ru-RU" sz="3600" spc="-1" strike="noStrike">
                <a:solidFill>
                  <a:srgbClr val="ffffcc"/>
                </a:solidFill>
                <a:latin typeface="Tahoma"/>
                <a:ea typeface="Arial"/>
              </a:rPr>
              <a:t>листопад</a:t>
            </a:r>
            <a:r>
              <a:rPr b="1" lang="ru-RU" sz="3600" spc="-1" strike="noStrike">
                <a:solidFill>
                  <a:srgbClr val="afffff"/>
                </a:solidFill>
                <a:latin typeface="Tahoma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9" descr="Клен-в-парке"/>
          <p:cNvPicPr/>
          <p:nvPr/>
        </p:nvPicPr>
        <p:blipFill>
          <a:blip r:embed="rId1"/>
          <a:stretch/>
        </p:blipFill>
        <p:spPr>
          <a:xfrm>
            <a:off x="1044720" y="1293840"/>
            <a:ext cx="7056360" cy="472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лист1"/>
          <p:cNvPicPr/>
          <p:nvPr/>
        </p:nvPicPr>
        <p:blipFill>
          <a:blip r:embed="rId2"/>
          <a:stretch/>
        </p:blipFill>
        <p:spPr>
          <a:xfrm rot="20476200">
            <a:off x="5940000" y="1557000"/>
            <a:ext cx="509760" cy="37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лист2"/>
          <p:cNvPicPr/>
          <p:nvPr/>
        </p:nvPicPr>
        <p:blipFill>
          <a:blip r:embed="rId3"/>
          <a:stretch/>
        </p:blipFill>
        <p:spPr>
          <a:xfrm rot="20403600">
            <a:off x="5383080" y="2317680"/>
            <a:ext cx="587520" cy="56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лист3"/>
          <p:cNvPicPr/>
          <p:nvPr/>
        </p:nvPicPr>
        <p:blipFill>
          <a:blip r:embed="rId4"/>
          <a:stretch/>
        </p:blipFill>
        <p:spPr>
          <a:xfrm>
            <a:off x="7634160" y="2451240"/>
            <a:ext cx="373320" cy="44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лист4"/>
          <p:cNvPicPr/>
          <p:nvPr/>
        </p:nvPicPr>
        <p:blipFill>
          <a:blip r:embed="rId5"/>
          <a:stretch/>
        </p:blipFill>
        <p:spPr>
          <a:xfrm>
            <a:off x="7130880" y="2077920"/>
            <a:ext cx="633600" cy="68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лист4"/>
          <p:cNvPicPr/>
          <p:nvPr/>
        </p:nvPicPr>
        <p:blipFill>
          <a:blip r:embed="rId6"/>
          <a:stretch/>
        </p:blipFill>
        <p:spPr>
          <a:xfrm rot="291000">
            <a:off x="5927760" y="2383920"/>
            <a:ext cx="687240" cy="63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лист1"/>
          <p:cNvPicPr/>
          <p:nvPr/>
        </p:nvPicPr>
        <p:blipFill>
          <a:blip r:embed="rId7"/>
          <a:stretch/>
        </p:blipFill>
        <p:spPr>
          <a:xfrm>
            <a:off x="3924360" y="1341360"/>
            <a:ext cx="509400" cy="37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лист1"/>
          <p:cNvPicPr/>
          <p:nvPr/>
        </p:nvPicPr>
        <p:blipFill>
          <a:blip r:embed="rId8"/>
          <a:stretch/>
        </p:blipFill>
        <p:spPr>
          <a:xfrm rot="19626600">
            <a:off x="4932000" y="1341360"/>
            <a:ext cx="509760" cy="37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лист1"/>
          <p:cNvPicPr/>
          <p:nvPr/>
        </p:nvPicPr>
        <p:blipFill>
          <a:blip r:embed="rId9"/>
          <a:stretch/>
        </p:blipFill>
        <p:spPr>
          <a:xfrm rot="1867800">
            <a:off x="7019640" y="1773000"/>
            <a:ext cx="509400" cy="379440"/>
          </a:xfrm>
          <a:prstGeom prst="rect">
            <a:avLst/>
          </a:prstGeom>
          <a:ln w="0">
            <a:noFill/>
          </a:ln>
        </p:spPr>
      </p:pic>
    </p:spTree>
  </p:cSld>
  <p:transition advTm="30000">
    <p:cover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51564E-006 C -0.04948 -0.00787 -0.09878 -0.01552 -0.11302 -0.00208 C -0.12726 0.01136 -0.10625 0.05516 -0.08524 0.08112 C -0.06423 0.10708 0.0184 0.1284 0.0132 0.15319 C 0.00799 0.17799 -0.11649 0.20557 -0.11632 0.2299 C -0.11614 0.25424 0.03177 0.26165 0.01476 0.29989 C -0.00226 0.33813 -0.11024 0.39885 -0.21805 0.45957 E">
                                      <p:cBhvr>
                                        <p:cTn id="14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56 0.15139 C 0.15208 0.15972 0.12396 0.16806 0.12083 0.18472 C 0.11771 0.20139 0.17049 0.22315 0.16146 0.25139 C 0.1526 0.27963 0.0632 0.30278 0.06701 0.35463 C 0.07083 0.40602 0.12778 0.4831 0.1849 0.56042 E">
                                      <p:cBhvr>
                                        <p:cTn id="148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6118 C -0.06615 0.09038 -0.11111 0.11958 -0.10955 0.13997 C -0.10799 0.16037 -0.01823 0.16222 -0.01111 0.18377 C -0.004 0.20533 -0.04636 0.25307 -0.06684 0.26906 C -0.08733 0.28505 -0.1316 0.26813 -0.13403 0.28018 C -0.13646 0.29223 -0.11493 0.31518 -0.0816 0.34136 C -0.04827 0.36755 0.00885 0.40255 0.06597 0.43754 E">
                                      <p:cBhvr>
                                        <p:cTn id="150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803 0.15139 C 0.15782 0.15879 0.12761 0.16643 0.12448 0.18125 C 0.12119 0.19606 0.17726 0.21551 0.16771 0.24097 C 0.15834 0.26643 0.0632 0.28704 0.06719 0.33356 C 0.07119 0.37963 0.13178 0.44861 0.19271 0.51829 E">
                                      <p:cBhvr>
                                        <p:cTn id="15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26767E-006 C 0.00052 0.05979 0.00122 0.11981 -0.01771 0.14206 C -0.03646 0.16431 -0.09271 0.11309 -0.11285 0.13372 C -0.13299 0.15411 -0.11979 0.23615 -0.13854 0.26442 C -0.15729 0.2927 -0.20469 0.27949 -0.22535 0.30428 C -0.24601 0.32885 -0.2434 0.3891 -0.26267 0.41228 C -0.28194 0.43545 -0.31181 0.43939 -0.34132 0.4438 E">
                                      <p:cBhvr>
                                        <p:cTn id="15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6296E-006 C -0.05729 -0.00764 -0.11406 -0.01505 -0.13056 -0.00209 C -0.14688 0.01134 -0.12274 0.05416 -0.09844 0.07986 C -0.07413 0.10532 0.02118 0.12662 0.0151 0.15092 C 0.0092 0.17546 -0.13455 0.20277 -0.1342 0.22662 C -0.13403 0.25046 0.0368 0.25787 0.01684 0.29537 C -0.00278 0.3331 -0.12726 0.39328 -0.25156 0.45324 E">
                                      <p:cBhvr>
                                        <p:cTn id="159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33 0.15139 C 0.16909 0.16111 0.13559 0.17106 0.13177 0.19074 C 0.12795 0.20972 0.19097 0.23565 0.18055 0.26898 C 0.16962 0.30231 0.06319 0.32986 0.06736 0.39028 C 0.07205 0.45139 0.14028 0.5419 0.2085 0.63379 E">
                                      <p:cBhvr>
                                        <p:cTn id="16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68 6.83662E-007 C -0.02812 0.0102 -0.06458 0.02086 -0.06857 0.04171 C -0.07257 0.06234 -0.00434 0.08969 -0.0158 0.12491 C -0.02743 0.1606 -0.14323 0.18934 -0.13837 0.25377 C -0.13333 0.31819 -0.05972 0.4146 0.01441 0.51101 E">
                                      <p:cBhvr>
                                        <p:cTn id="164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ffff"/>
                </a:solidFill>
                <a:latin typeface="Tahoma"/>
              </a:rPr>
              <a:t>На некоторых деревьях остаются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лоды</a:t>
            </a:r>
            <a:r>
              <a:rPr b="1" lang="ru-RU" sz="3200" spc="-1" strike="noStrike">
                <a:solidFill>
                  <a:srgbClr val="a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емена</a:t>
            </a:r>
            <a:r>
              <a:rPr b="1" lang="ru-RU" sz="3200" spc="-1" strike="noStrike">
                <a:solidFill>
                  <a:srgbClr val="a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595008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ffff"/>
                </a:solidFill>
                <a:latin typeface="Tahoma"/>
              </a:rPr>
              <a:t>Этими плодами питаются птицы зимой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Кисть-рябины"/>
          <p:cNvPicPr/>
          <p:nvPr/>
        </p:nvPicPr>
        <p:blipFill>
          <a:blip r:embed="rId1"/>
          <a:stretch/>
        </p:blipFill>
        <p:spPr>
          <a:xfrm>
            <a:off x="1979640" y="1228680"/>
            <a:ext cx="4624200" cy="483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Снегирь-2"/>
          <p:cNvPicPr/>
          <p:nvPr/>
        </p:nvPicPr>
        <p:blipFill>
          <a:blip r:embed="rId2"/>
          <a:stretch/>
        </p:blipFill>
        <p:spPr>
          <a:xfrm>
            <a:off x="4664160" y="2421000"/>
            <a:ext cx="1923840" cy="367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сверистель"/>
          <p:cNvPicPr/>
          <p:nvPr/>
        </p:nvPicPr>
        <p:blipFill>
          <a:blip r:embed="rId3"/>
          <a:stretch/>
        </p:blipFill>
        <p:spPr>
          <a:xfrm>
            <a:off x="0" y="549360"/>
            <a:ext cx="2892600" cy="3311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7056360" y="371628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fffff"/>
                </a:solidFill>
                <a:latin typeface="Tahoma"/>
              </a:rPr>
              <a:t>снегирь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-181080" y="3645000"/>
            <a:ext cx="23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fffff"/>
                </a:solidFill>
                <a:latin typeface="Tahoma"/>
              </a:rPr>
              <a:t>свиристель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30000">
    <p:cover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6 C 0.05382 -0.0081 0.10782 -0.0162 0.14167 0.02454 C 0.17552 0.06528 0.19306 0.20787 0.2033 0.24445 E"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ЕЛОВАЯ-ВЕТКА-С-ШИШКОЙ"/>
          <p:cNvPicPr/>
          <p:nvPr/>
        </p:nvPicPr>
        <p:blipFill>
          <a:blip r:embed="rId1"/>
          <a:stretch/>
        </p:blipFill>
        <p:spPr>
          <a:xfrm>
            <a:off x="4537080" y="498600"/>
            <a:ext cx="3897360" cy="4068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5688000" y="2552760"/>
            <a:ext cx="23018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шиш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164360" y="333360"/>
            <a:ext cx="23018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вет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148360" y="522936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5" descr="Ель-с-шишками"/>
          <p:cNvPicPr/>
          <p:nvPr/>
        </p:nvPicPr>
        <p:blipFill>
          <a:blip r:embed="rId2"/>
          <a:stretch/>
        </p:blipFill>
        <p:spPr>
          <a:xfrm>
            <a:off x="236520" y="287280"/>
            <a:ext cx="3759120" cy="623736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22960" y="4941720"/>
            <a:ext cx="335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СОС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5" descr="Шишечка-сосенки"/>
          <p:cNvPicPr/>
          <p:nvPr/>
        </p:nvPicPr>
        <p:blipFill>
          <a:blip r:embed="rId1"/>
          <a:stretch/>
        </p:blipFill>
        <p:spPr>
          <a:xfrm>
            <a:off x="5172120" y="289080"/>
            <a:ext cx="3720960" cy="3993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Безимени-1"/>
          <p:cNvPicPr/>
          <p:nvPr/>
        </p:nvPicPr>
        <p:blipFill>
          <a:blip r:embed="rId2"/>
          <a:stretch/>
        </p:blipFill>
        <p:spPr>
          <a:xfrm>
            <a:off x="503280" y="189000"/>
            <a:ext cx="3924360" cy="6458040"/>
          </a:xfrm>
          <a:prstGeom prst="rect">
            <a:avLst/>
          </a:prstGeom>
          <a:ln w="0">
            <a:noFill/>
          </a:ln>
        </p:spPr>
      </p:pic>
    </p:spTree>
  </p:cSld>
  <p:transition advTm="27000">
    <p:cover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s00.yaplakal.com/pics/pics_original/7/5/4/5845457.jpg"/>
          <p:cNvPicPr/>
          <p:nvPr/>
        </p:nvPicPr>
        <p:blipFill>
          <a:blip r:embed="rId1"/>
          <a:stretch/>
        </p:blipFill>
        <p:spPr>
          <a:xfrm>
            <a:off x="250920" y="260280"/>
            <a:ext cx="5545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ahoma"/>
              </a:rPr>
              <a:t>Деревья в лесу</a:t>
            </a:r>
            <a:endParaRPr b="0" lang="en-US" sz="8000" spc="-1" strike="noStrike">
              <a:solidFill>
                <a:srgbClr val="a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372360" y="4581360"/>
            <a:ext cx="246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fffff"/>
                </a:solidFill>
                <a:latin typeface="Tahoma"/>
              </a:rPr>
              <a:t>КЕДР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8" descr="Кедр-летом1"/>
          <p:cNvPicPr/>
          <p:nvPr/>
        </p:nvPicPr>
        <p:blipFill>
          <a:blip r:embed="rId1"/>
          <a:stretch/>
        </p:blipFill>
        <p:spPr>
          <a:xfrm>
            <a:off x="179280" y="115920"/>
            <a:ext cx="5703840" cy="645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edr4"/>
          <p:cNvPicPr/>
          <p:nvPr/>
        </p:nvPicPr>
        <p:blipFill>
          <a:blip r:embed="rId2"/>
          <a:stretch/>
        </p:blipFill>
        <p:spPr>
          <a:xfrm>
            <a:off x="6129360" y="115920"/>
            <a:ext cx="3014640" cy="295416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Орех-кедровый"/>
          <p:cNvPicPr/>
          <p:nvPr/>
        </p:nvPicPr>
        <p:blipFill>
          <a:blip r:embed="rId1"/>
          <a:stretch/>
        </p:blipFill>
        <p:spPr>
          <a:xfrm>
            <a:off x="4356000" y="216000"/>
            <a:ext cx="4643640" cy="3770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Шишки-под-кедром"/>
          <p:cNvPicPr/>
          <p:nvPr/>
        </p:nvPicPr>
        <p:blipFill>
          <a:blip r:embed="rId2"/>
          <a:stretch/>
        </p:blipFill>
        <p:spPr>
          <a:xfrm>
            <a:off x="179280" y="216000"/>
            <a:ext cx="3962520" cy="6453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3962520" y="613584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ишк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508720" y="414972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ешк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292720" y="515772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fffff"/>
                </a:solidFill>
                <a:latin typeface="Tahoma"/>
              </a:rPr>
              <a:t>КЕДРОВЫ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657760" y="5807160"/>
            <a:ext cx="2514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ПИХТ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3" descr="Шишка-пихты"/>
          <p:cNvPicPr/>
          <p:nvPr/>
        </p:nvPicPr>
        <p:blipFill>
          <a:blip r:embed="rId1"/>
          <a:stretch/>
        </p:blipFill>
        <p:spPr>
          <a:xfrm>
            <a:off x="4956120" y="249120"/>
            <a:ext cx="3832200" cy="512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pihta1"/>
          <p:cNvPicPr/>
          <p:nvPr/>
        </p:nvPicPr>
        <p:blipFill>
          <a:blip r:embed="rId2"/>
          <a:stretch/>
        </p:blipFill>
        <p:spPr>
          <a:xfrm>
            <a:off x="299880" y="189000"/>
            <a:ext cx="3911760" cy="6453000"/>
          </a:xfrm>
          <a:prstGeom prst="rect">
            <a:avLst/>
          </a:prstGeom>
          <a:ln w="0">
            <a:noFill/>
          </a:ln>
        </p:spPr>
      </p:pic>
    </p:spTree>
  </p:cSld>
  <p:transition advTm="27000">
    <p:cover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299280" y="549360"/>
            <a:ext cx="26654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Хвойны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деревья</a:t>
            </a:r>
            <a:br>
              <a:rPr sz="3600"/>
            </a:b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не меняют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окраску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 весь год стоят зелёные.</a:t>
            </a:r>
            <a:r>
              <a:rPr b="1" lang="ru-RU" sz="3200" spc="-1" strike="noStrike">
                <a:solidFill>
                  <a:srgbClr val="a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3" descr="Смешанный-лес-зимой"/>
          <p:cNvPicPr/>
          <p:nvPr/>
        </p:nvPicPr>
        <p:blipFill>
          <a:blip r:embed="rId1"/>
          <a:stretch/>
        </p:blipFill>
        <p:spPr>
          <a:xfrm>
            <a:off x="138240" y="216000"/>
            <a:ext cx="6018120" cy="6381720"/>
          </a:xfrm>
          <a:prstGeom prst="rect">
            <a:avLst/>
          </a:prstGeom>
          <a:ln w="0">
            <a:noFill/>
          </a:ln>
        </p:spPr>
      </p:pic>
    </p:spTree>
  </p:cSld>
  <p:transition advTm="60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fffff"/>
                </a:solidFill>
                <a:latin typeface="Arial"/>
              </a:rPr>
              <a:t>Только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лиственница меняет </a:t>
            </a: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окраску</a:t>
            </a:r>
            <a:r>
              <a:rPr b="0" lang="ru-RU" sz="3600" spc="-1" strike="noStrike">
                <a:solidFill>
                  <a:srgbClr val="afffff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afffff"/>
                </a:solidFill>
                <a:latin typeface="Arial"/>
              </a:rPr>
              <a:t>сбрасывает свои иголочки-хвоинки</a:t>
            </a:r>
            <a:r>
              <a:rPr b="0" lang="ru-RU" sz="3600" spc="-1" strike="noStrike">
                <a:solidFill>
                  <a:srgbClr val="a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afffff"/>
              </a:solidFill>
              <a:latin typeface="Tahoma"/>
            </a:endParaRPr>
          </a:p>
        </p:txBody>
      </p:sp>
      <p:pic>
        <p:nvPicPr>
          <p:cNvPr id="143" name="Picture 3" descr="Ветка-лиственницы"/>
          <p:cNvPicPr/>
          <p:nvPr/>
        </p:nvPicPr>
        <p:blipFill>
          <a:blip r:embed="rId1"/>
          <a:stretch/>
        </p:blipFill>
        <p:spPr>
          <a:xfrm>
            <a:off x="6453360" y="2060640"/>
            <a:ext cx="2446200" cy="3384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3708360" y="566100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осень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588000" y="5661000"/>
            <a:ext cx="20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зи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7" descr="лиственница"/>
          <p:cNvPicPr/>
          <p:nvPr/>
        </p:nvPicPr>
        <p:blipFill>
          <a:blip r:embed="rId2"/>
          <a:srcRect l="18750" t="8627" r="14196" b="17523"/>
          <a:stretch/>
        </p:blipFill>
        <p:spPr>
          <a:xfrm>
            <a:off x="179280" y="2060640"/>
            <a:ext cx="2700360" cy="3384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611280" y="5661000"/>
            <a:ext cx="165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весной и летом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11" descr="Лиственница-в-снегу"/>
          <p:cNvPicPr/>
          <p:nvPr/>
        </p:nvPicPr>
        <p:blipFill>
          <a:blip r:embed="rId3"/>
          <a:stretch/>
        </p:blipFill>
        <p:spPr>
          <a:xfrm>
            <a:off x="3533760" y="2060640"/>
            <a:ext cx="2262240" cy="3308400"/>
          </a:xfrm>
          <a:prstGeom prst="rect">
            <a:avLst/>
          </a:prstGeom>
          <a:ln w="0">
            <a:noFill/>
          </a:ln>
        </p:spPr>
      </p:pic>
    </p:spTree>
  </p:cSld>
  <p:transition advTm="60000"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Calibri"/>
              </a:rPr>
              <a:t>«Почему листья опадают?»</a:t>
            </a:r>
            <a:br>
              <a:rPr sz="8000"/>
            </a:br>
            <a:endParaRPr b="0" lang="en-US" sz="8000" spc="-1" strike="noStrike">
              <a:solidFill>
                <a:srgbClr val="a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Дерево-и-куст"/>
          <p:cNvPicPr/>
          <p:nvPr/>
        </p:nvPicPr>
        <p:blipFill>
          <a:blip r:embed="rId1"/>
          <a:stretch/>
        </p:blipFill>
        <p:spPr>
          <a:xfrm>
            <a:off x="2133720" y="533520"/>
            <a:ext cx="5278320" cy="5667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95280" y="54936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дерево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467480" y="494172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кус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Line 7"/>
          <p:cNvSpPr/>
          <p:nvPr/>
        </p:nvSpPr>
        <p:spPr>
          <a:xfrm>
            <a:off x="1828800" y="3886200"/>
            <a:ext cx="1981080" cy="68580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Line 9"/>
          <p:cNvSpPr/>
          <p:nvPr/>
        </p:nvSpPr>
        <p:spPr>
          <a:xfrm>
            <a:off x="2057400" y="4876920"/>
            <a:ext cx="1676520" cy="76176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057400" y="4876920"/>
            <a:ext cx="4114800" cy="45720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80880" y="426708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коре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380880" y="320040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стебе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6476760" y="3657600"/>
            <a:ext cx="1066680" cy="106668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7093080" y="2924280"/>
            <a:ext cx="167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стеб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4858920" y="2565360"/>
            <a:ext cx="2592360" cy="50328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6084360" y="2565360"/>
            <a:ext cx="1366920" cy="79236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7308720" y="184464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вет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Line 19"/>
          <p:cNvSpPr/>
          <p:nvPr/>
        </p:nvSpPr>
        <p:spPr>
          <a:xfrm flipH="1">
            <a:off x="4284360" y="1197000"/>
            <a:ext cx="1655640" cy="50328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Line 20"/>
          <p:cNvSpPr/>
          <p:nvPr/>
        </p:nvSpPr>
        <p:spPr>
          <a:xfrm flipH="1">
            <a:off x="5866920" y="1197000"/>
            <a:ext cx="73080" cy="1511280"/>
          </a:xfrm>
          <a:prstGeom prst="line">
            <a:avLst/>
          </a:prstGeom>
          <a:ln w="381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5943600" y="5335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листь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324000" y="256536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ffff"/>
                </a:solidFill>
                <a:latin typeface="Arial"/>
              </a:rPr>
              <a:t>(ствол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20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8360" y="5381280"/>
            <a:ext cx="30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лиственные</a:t>
            </a:r>
            <a:endParaRPr b="0" lang="en-US" sz="32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914400" y="-2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Какие бывают деревья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691320" y="5661000"/>
            <a:ext cx="24526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хвойны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4" name="Picture 5" descr="Смешанный-лес"/>
          <p:cNvPicPr/>
          <p:nvPr/>
        </p:nvPicPr>
        <p:blipFill>
          <a:blip r:embed="rId1"/>
          <a:stretch/>
        </p:blipFill>
        <p:spPr>
          <a:xfrm>
            <a:off x="2843280" y="936720"/>
            <a:ext cx="3936960" cy="573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Ветка-березы"/>
          <p:cNvPicPr/>
          <p:nvPr/>
        </p:nvPicPr>
        <p:blipFill>
          <a:blip r:embed="rId2"/>
          <a:stretch/>
        </p:blipFill>
        <p:spPr>
          <a:xfrm>
            <a:off x="-139680" y="2421000"/>
            <a:ext cx="3137040" cy="227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Шишечка-сосенки"/>
          <p:cNvPicPr/>
          <p:nvPr/>
        </p:nvPicPr>
        <p:blipFill>
          <a:blip r:embed="rId3"/>
          <a:stretch/>
        </p:blipFill>
        <p:spPr>
          <a:xfrm>
            <a:off x="6838920" y="2286000"/>
            <a:ext cx="227016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Line 8"/>
          <p:cNvSpPr/>
          <p:nvPr/>
        </p:nvSpPr>
        <p:spPr>
          <a:xfrm flipH="1">
            <a:off x="539640" y="5587920"/>
            <a:ext cx="144720" cy="2174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1547280" y="5805360"/>
            <a:ext cx="5763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Line 10"/>
          <p:cNvSpPr/>
          <p:nvPr/>
        </p:nvSpPr>
        <p:spPr>
          <a:xfrm flipH="1">
            <a:off x="7596000" y="5734080"/>
            <a:ext cx="144360" cy="1443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40000">
    <p:cover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У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лиственных</a:t>
            </a: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 деревьев </a:t>
            </a:r>
            <a:br>
              <a:rPr sz="4400"/>
            </a:b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на ветках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обычные листья</a:t>
            </a: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sp>
        <p:nvSpPr>
          <p:cNvPr id="71" name="Arc 14"/>
          <p:cNvSpPr/>
          <p:nvPr/>
        </p:nvSpPr>
        <p:spPr>
          <a:xfrm>
            <a:off x="1187280" y="1268280"/>
            <a:ext cx="609840" cy="71640"/>
          </a:xfrm>
          <a:custGeom>
            <a:avLst/>
            <a:gdLst>
              <a:gd name="textAreaLeft" fmla="*/ 0 w 609840"/>
              <a:gd name="textAreaRight" fmla="*/ 610200 w 6098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fill="none" w="43034" h="21600">
                <a:moveTo>
                  <a:pt x="43034" y="0"/>
                </a:moveTo>
                <a:cubicBezTo>
                  <a:pt x="43034" y="11929"/>
                  <a:pt x="33363" y="21600"/>
                  <a:pt x="21434" y="21600"/>
                </a:cubicBezTo>
                <a:cubicBezTo>
                  <a:pt x="10537" y="21600"/>
                  <a:pt x="1347" y="13483"/>
                  <a:pt x="-1" y="2671"/>
                </a:cubicBezTo>
              </a:path>
              <a:path stroke="0" w="43034" h="21600">
                <a:moveTo>
                  <a:pt x="43034" y="0"/>
                </a:moveTo>
                <a:cubicBezTo>
                  <a:pt x="43034" y="11929"/>
                  <a:pt x="33363" y="21600"/>
                  <a:pt x="21434" y="21600"/>
                </a:cubicBezTo>
                <a:cubicBezTo>
                  <a:pt x="10537" y="21600"/>
                  <a:pt x="1347" y="13483"/>
                  <a:pt x="-1" y="2671"/>
                </a:cubicBezTo>
                <a:lnTo>
                  <a:pt x="21434" y="0"/>
                </a:lnTo>
                <a:lnTo>
                  <a:pt x="43034" y="0"/>
                </a:lnTo>
                <a:close/>
              </a:path>
            </a:pathLst>
          </a:custGeom>
          <a:noFill/>
          <a:ln w="38160">
            <a:solidFill>
              <a:srgbClr val="56eb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2" name="Picture 17" descr="клён1"/>
          <p:cNvPicPr/>
          <p:nvPr/>
        </p:nvPicPr>
        <p:blipFill>
          <a:blip r:embed="rId1"/>
          <a:stretch/>
        </p:blipFill>
        <p:spPr>
          <a:xfrm>
            <a:off x="973080" y="1268280"/>
            <a:ext cx="7344000" cy="5500800"/>
          </a:xfrm>
          <a:prstGeom prst="rect">
            <a:avLst/>
          </a:prstGeom>
          <a:ln w="0">
            <a:noFill/>
          </a:ln>
        </p:spPr>
      </p:pic>
    </p:spTree>
  </p:cSld>
  <p:transition advTm="40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У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хвойных</a:t>
            </a: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 деревьев листья  </a:t>
            </a:r>
            <a:br>
              <a:rPr sz="4400"/>
            </a:b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в виде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иголочек-хвоинок</a:t>
            </a: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afffff"/>
              </a:solidFill>
              <a:latin typeface="Tahoma"/>
            </a:endParaRPr>
          </a:p>
        </p:txBody>
      </p:sp>
      <p:pic>
        <p:nvPicPr>
          <p:cNvPr id="74" name="Picture 16" descr="хвоя1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5378400"/>
          </a:xfrm>
          <a:prstGeom prst="rect">
            <a:avLst/>
          </a:prstGeom>
          <a:ln w="0">
            <a:noFill/>
          </a:ln>
        </p:spPr>
      </p:pic>
    </p:spTree>
  </p:cSld>
  <p:transition advTm="40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Береза-на-обрыве"/>
          <p:cNvPicPr/>
          <p:nvPr/>
        </p:nvPicPr>
        <p:blipFill>
          <a:blip r:embed="rId1"/>
          <a:stretch/>
        </p:blipFill>
        <p:spPr>
          <a:xfrm>
            <a:off x="165240" y="189000"/>
            <a:ext cx="5630760" cy="636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Ветка-березы"/>
          <p:cNvPicPr/>
          <p:nvPr/>
        </p:nvPicPr>
        <p:blipFill>
          <a:blip r:embed="rId2"/>
          <a:stretch/>
        </p:blipFill>
        <p:spPr>
          <a:xfrm>
            <a:off x="5867280" y="179280"/>
            <a:ext cx="3216240" cy="2338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948360" y="2708280"/>
            <a:ext cx="1636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ет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227640" y="4508640"/>
            <a:ext cx="26053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ffff"/>
                </a:solidFill>
                <a:latin typeface="Tahoma"/>
              </a:rPr>
              <a:t>БЕРЁ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Осина-и-береза"/>
          <p:cNvPicPr/>
          <p:nvPr/>
        </p:nvPicPr>
        <p:blipFill>
          <a:blip r:embed="rId1"/>
          <a:stretch/>
        </p:blipFill>
        <p:spPr>
          <a:xfrm>
            <a:off x="108000" y="217440"/>
            <a:ext cx="4537080" cy="652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Осина-листья"/>
          <p:cNvPicPr/>
          <p:nvPr/>
        </p:nvPicPr>
        <p:blipFill>
          <a:blip r:embed="rId2"/>
          <a:stretch/>
        </p:blipFill>
        <p:spPr>
          <a:xfrm>
            <a:off x="4875120" y="217440"/>
            <a:ext cx="4145040" cy="3370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5181480" y="464832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fffff"/>
                </a:solidFill>
                <a:latin typeface="Tahoma"/>
              </a:rPr>
              <a:t>ОС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Желуди"/>
          <p:cNvPicPr/>
          <p:nvPr/>
        </p:nvPicPr>
        <p:blipFill>
          <a:blip r:embed="rId1"/>
          <a:stretch/>
        </p:blipFill>
        <p:spPr>
          <a:xfrm>
            <a:off x="5292720" y="222120"/>
            <a:ext cx="3597120" cy="4214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Дуб-рисунок"/>
          <p:cNvPicPr/>
          <p:nvPr/>
        </p:nvPicPr>
        <p:blipFill>
          <a:blip r:embed="rId2"/>
          <a:stretch/>
        </p:blipFill>
        <p:spPr>
          <a:xfrm>
            <a:off x="250920" y="155520"/>
            <a:ext cx="4805280" cy="6308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5435640" y="523872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fffff"/>
                </a:solidFill>
                <a:latin typeface="Tahoma"/>
              </a:rPr>
              <a:t>ДУБ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27000">
    <p:cover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8:45:34Z</dcterms:created>
  <dc:creator>Администратор</dc:creator>
  <dc:description/>
  <dc:language>en-US</dc:language>
  <cp:lastModifiedBy>Оля</cp:lastModifiedBy>
  <dcterms:modified xsi:type="dcterms:W3CDTF">2015-12-01T08:05:25Z</dcterms:modified>
  <cp:revision>128</cp:revision>
  <dc:subject/>
  <dc:title>Деревья и кустарники</dc:title>
</cp:coreProperties>
</file>